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351-6BDE-4D85-9225-346C31BA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668A-9236-4D30-BD5D-B4CF3E2F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C108C-DEB3-4735-9C07-99F8F7D4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8CF5B-BB9D-4535-9185-7B687A82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23050-6ECD-40F8-99BB-47EAC95F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A48F9-67B4-47AB-832C-23336874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061D2-A8D2-46B8-8576-16034047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281AD-FF7F-4AF6-8A48-C27F0C4B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4A166-6E9A-4058-99A4-3396C2F7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6B121-7353-4FE1-AA61-3552EC69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9252E-7364-4AF5-9BB4-25261726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3E68E-261A-47A0-9A99-F120E525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C0C-EB1F-4114-8F37-B5261EB4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EE474-756C-411B-890A-E36DFEE7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921EA-BC1D-4673-8D5B-75CBECC1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C1924-9EC5-4943-951E-DED24A24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A18CB-2AAC-4A68-9F92-D7EA5B77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85F7C-F4FF-48B6-B7B3-2B4AE2F3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A66F9-D935-4FEF-BCE4-D9806890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F7565-DA94-4C22-AB20-DCC7F2FD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00240-347F-4568-A839-36A55498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7AB13-2595-47B1-A54B-87F865BB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F577F-DD19-4F96-9E6A-CC2CB7A6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90C-230C-4ACD-8C94-02EB3835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CAD8E-0C97-46E8-9F7D-8827F2A3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36650-4BF4-41E2-99F4-5564EFFA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05E03-7DA8-40B7-B697-3D6ED510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570E7-9550-4BE6-9405-D3E06E78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42068-5229-4CBB-830D-C2DA91F9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3E437-D9A9-4844-B3FB-7569C0D1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EB07D-37CD-4C50-99EC-28372283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BF1AE-E55B-4A18-B756-7249CDC3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CC4A8-BDDC-4013-96B7-04101BA9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23F1D-736C-4A60-B62B-C8A57C87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A692-C858-4A50-80E4-8B13219F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EC104-A99F-4A08-B9BD-C793933E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75628-FB25-4BD8-BF54-BFE54FBE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B77A6-752E-44C5-97D1-F2F117A4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A189B-EAB8-4A9B-B7EE-58357643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4EB16-EE39-469B-800C-BD69DF12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D75F3-51BA-45DB-A659-F3A64BCF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CA0AE-28ED-4693-99AE-7E0E51D7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6030A-B0C7-4BE6-9990-38CF3C74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607CA-F061-457D-95D5-A8B64655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8C21E-9B39-4728-83A9-2BD2087F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6E26-7E82-44A4-AE9E-0AE5DAC5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2F401-0C48-4502-9C2D-1782E05F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E29DF-B35F-4EE2-97AD-6CD87416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7E674-6735-4A2E-BE35-B54D7CA6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79D92-83C7-40E3-8E1B-37656169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CA0E5-B627-47CA-9210-B5266FC1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7D687-3537-456A-A372-BDBF831E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0660A-D40E-45E2-A23B-41AE2BCD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8C044E-865D-4E4C-A2C3-DFD5D5B9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5EC3A-9340-4FD0-94EC-B2ABF125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541D81-6326-4E47-BE99-D30B6D91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A138-C2D9-4067-9536-3ADD5225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DC227-E889-4145-84D3-4CADFB4B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F7E8F-EDC1-4C56-A7DF-374501D1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80F34F-CFA0-4BC5-9D5A-9843386C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04E401-0C7A-4E04-97BF-4F7D48AB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DFA95-F7C2-4DDB-9D38-90845BEB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F1E0D-10CC-48AC-8695-20197891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25520-88AF-4D3D-9C47-09043CE4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4A550B-F611-4879-B74D-6EA2477B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AA28C6-2029-4C3F-86E3-F7AF864B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365792-DD48-4E94-9D11-3C8E7991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D098-DBEB-49B2-9004-1B210A84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A22E34-CE04-4C07-AC2B-152244BD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ECEEE2-97B9-46DE-94C7-48A19214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867BAA-AEDA-4EE0-B292-99D5FB0C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30C8A8-1239-4C6B-9CAE-CE2E3163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0DF572-642F-4A35-BB51-5D8A7F00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DDE4CD-59BD-4B33-AE78-DA4121DA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E5F086-65EF-4E1A-A4C2-7672B9EB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CE6DE0-3BEC-4507-A23A-0E34CA39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841593-FF80-4A2B-9D10-C30E357E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8B145A-A7F7-4FAF-AD16-118F2BE1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153C-9B98-4E00-B022-75351252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B6A397-6803-408F-8B46-9EBA6318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4DD7C4-2729-4AC3-92E1-178FC590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AF7ABD-B0BF-4856-AA61-89149CAF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CFD93A-DECE-41AA-B4A8-24AAEBE8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37DBBC-0952-417F-9513-50903875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CD12EF-EBD8-4651-8DF1-D606EC78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04FF79-839D-4AE6-B0A0-9CCE95CB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01AD07-4560-487E-94B6-B6678B9D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4F7879-8349-4913-8339-DDF4B3FC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0E3C61-8C27-4943-906E-0AD040D2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AFF8-7973-4112-A244-8D1C208D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BE6DBF-B863-4B23-B245-08BED703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063E7C-F580-4E06-9F42-6237B8DA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CCE449-A997-4151-BB49-013047F4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26391C-DB6F-4B42-A759-7A363EA8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6EC300-5D2E-4A4E-B0F7-BC84DA58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FF1660-D92F-40CD-A7DE-2B8E50CF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3D85B5-475E-4862-BA1F-EC52F23C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169E19-6AEA-440F-88E9-80DBB4B5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1AB93C-EC42-4F2F-BFCE-029721EF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CC012B-3013-4AAE-9DFF-2F0CE57E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51C7-A909-404B-93B8-5C6AEF2A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1BA0B2-107B-45A9-96ED-2D5C1E24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5390B1-8600-48B3-B4DD-09B458AF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E29D35-7A78-4529-846B-A289F3F4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3C9FDB-EE2E-44A2-B186-67365D8F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583409-2B41-487E-87D4-C1EA9F4B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0D1402-5C6A-4936-A4B3-D83A0DBE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965773-5D02-4C0A-B9EA-8F878B95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226C35-1F1D-40C5-8CAD-6A924DCE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7222C7-B03E-4B56-B61E-3B7AE7E7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1FE385-1909-4599-B9E9-B09AFE41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A8A2-9462-40A0-A5E2-7F2D5BC4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7195-C19E-48AE-AD8B-3A708C1F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3223DD-A2E6-48F5-81A7-0ADA7225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AACB3A-E2AA-4803-A192-59D96840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5DAF5E-62B4-4D99-BE00-25786C91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CA431B-CFB8-43F1-A8B1-C9B42FAA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3949DC-F089-4B87-B45F-3093DF2B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378F23-832A-4F6D-9E4F-20ACA940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B246C9-34AE-4720-AECF-F16AD64A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D1E8BD-93C0-4272-905B-40C1024C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26C26A-EC75-4CF7-8B7B-4F4853F8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9D5200-EE8A-48E5-8622-AD35B958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6F10-4174-4778-85DB-48B960D1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36D2AF-0979-475C-BBEF-56865FBA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BD95EA-DA44-4E0E-9974-18F86DFF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162850-A6A5-43E1-9C0F-C3003A35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5B597F-F4F2-4EE4-829D-DAB9D6C1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C02E3D-E714-4140-ADB1-72E7074B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588A84-3351-4D39-8D92-748F56E4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CDC385-477E-49F7-9241-3EB286AB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B3907F-B380-4FB6-8735-329FC1EA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260310-DC19-4F11-8935-0344D931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ABC348-95C3-469B-82BD-3263D9DE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6E41-0FD1-47AF-8D77-D7B0936E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4A52AC-7B7F-4BCE-8BAD-53DB9B0E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A1C7B8-8137-4A08-8EE8-E1D0D722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A8B9A0-FFF7-42B4-B591-2940857F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27D8E8-74CA-454C-B965-DBC2D405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CEEF12-1A3B-410F-BD3C-FAA74A20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23498E-7243-40CF-B223-9F821652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47AD9B-36A7-4749-918A-F3CA4C40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1EF3E3-6718-4760-BA8A-B66479F6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AC00CC-AA40-4B7A-982F-1AC3E8189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0A59F6-836E-4040-AEC8-0A655B5D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BC2F-BD5C-4A6C-92C0-BD6F581C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F83CFC-43A8-42D8-A81E-35C73B28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8E1D80-B774-43CC-B05B-8F0D130C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F331B5-314C-4E04-9034-21F1B967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A5DA7D-0403-4E13-BB0E-18442DE9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CD3C15-B703-4440-80BD-3D1D5F45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5826B9-04A4-45CE-A10C-E697EE9C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F5C03B-C743-41BB-97CC-01280599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7AA16C-E822-4BB3-AD7D-707D3AFF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9E8C7F-9AED-479C-B643-E6EFE1DA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81E979-D194-4348-A571-84EC354F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8ED8-4449-483C-B1B2-0CAF09D4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085367-4D37-46FF-A831-B842CACA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A41F70-2F1B-4961-935D-5014D894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126BB7-7804-4495-9049-870AA778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5B3108-2BFA-40D5-AB70-64A94D84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634DDF-A9E9-460F-8AF1-B75F9BF5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050A54-ED6C-4E81-A63C-8A098E42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0350F0-5670-48BA-9CC4-9AEB10D8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C5618F-1CE0-499A-ABBD-D47B2401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9AFD74-DD8A-4081-A890-08A18F0E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486AF7-D553-4257-8182-6AEDA1A5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53571-A10E-4247-A2C9-E5E1F5CE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E6C738-D87D-4CC3-84B2-3EF7084C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C9D6DE-86B5-4DC9-BA08-7EABF257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F9DBED-BC96-437A-9414-974C2B69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1D2CDB-63A3-40F6-8D46-A9D41E5E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A165C7-7F8F-4765-AD44-4AC50943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2ABCAD-1C64-498A-B4ED-1D9E4939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5A4B63-FCCA-4010-BF5F-C1924B81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B50FCB-0CD6-4AA4-9BAA-807126D5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E940FF-7A4A-4A5F-8D33-7032B296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89F7AE-C074-411F-9F8A-D1106B80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32867-4CCD-4FBF-9479-88D6FD94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D26203-8C88-4911-96B0-858C4C64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5F7096-8F37-4661-A45F-19ED0063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099F0D-E6EA-4779-B1C2-3C975562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0C3783-EBDC-4DB2-8419-A7A559EB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FA0158-8A41-4758-8DDC-50303E6C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F1224B-3484-4E12-A2A4-FB86D6F4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D6D8D3-9697-400C-A1B4-8A145145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69CA35-2EE4-41F5-A0F8-E27DD648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1ECCFE-A1B1-40C5-91BA-07125ACB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D1D3BC-02E2-4620-8DB9-E7FC3DC9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C3890-11CC-43B0-8137-73FD1B34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EF7ECA-3F99-465B-9A06-DFCA30AA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13AE0F-C8D7-464A-9F7F-00AC5B70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F3971D-AEB0-4192-AE75-0BDD3DD6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5678E3-B3D4-4901-A019-963A83B4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A690F1-E90F-4183-8062-FF0A75DE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23667C-76C6-4BFC-B344-69D67A45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4EC605-BC7D-438F-9672-4279CA92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D2CE8-2ED0-4C45-8A83-A733608D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EB2A4-7BB8-4439-9E00-CD3FDDD0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BC2-9D29-4414-81C7-BB1FEC3E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1BE30-2F50-45EF-8ED8-0EF20F46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8C35-8BCC-4BC9-88AC-A4C6FFEB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532A9-CEB9-4C54-98D8-58A5C0B8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B66C5-E851-47C5-BD7F-8A68C26B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B0B88-EE3C-426B-B2FD-F464FEF1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6F347-EC84-4AA1-8141-6686AB3A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C8740-F9A0-408B-97BA-9F05E722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65266-D357-4642-B98B-B80B2A16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F53F9-B485-4F08-A70E-6DA66ABB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9608C-591F-4E5F-9CC4-BE934677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860-A2CE-47BE-B350-504526F0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44531-662D-4428-89E0-679F0CE4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FF7AA-66A0-483D-8565-8D2FFA6D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4F494-BE7A-4EC7-8363-1A1EDC3D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B796E-1105-419C-9150-1D84C78F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2C7E4-49AC-491C-B907-E7FD377B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A1F21-3F72-443F-9ACD-799276B7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3392B-A60F-4ABD-B004-08C5CF00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0F729-DA53-41FF-923F-15E254CE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5FCC2-F976-42F8-AA4A-AE2100B6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319C8-80B6-4F86-843E-684A29CE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91D7-02FD-402B-9935-69CE00FA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3B506-CD9B-4C38-83BF-2CFF3918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15417-CD62-4699-B2FF-B849477F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C7DDB-2622-4ECD-8890-214FFCE2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9DA52-73BC-4005-937C-D45DCB31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CB67D-DAE6-4B8F-8B05-2EBF9CCC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2E97F-AA19-4ED6-82C5-C1BCCD7D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FC769-4205-4E88-9726-53D18F8A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14F82-C3E5-4E26-AB32-5C189E9E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410AF-2B89-481B-A9F2-C37B1CF4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370E3-D2B7-4BD5-AE6E-06BC9118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ADC-599B-4ED2-AEC7-55FC209B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D9BC0-9B2C-4A25-941A-1EC04442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0198C-1123-4870-80F4-2CAFB1F7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CA5AF-6017-4A91-A63B-1963C832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7C9D3-CE6D-4FAF-A39D-F058C22A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4B9A5-7BA9-4C77-8AAF-A8B821FF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216B4-8C22-4A59-ABB3-A97AACA4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D20B1-0E63-4162-A334-80D3C43B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B2FC5-3C10-4FCC-9284-2DCEED0C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FE381-1597-4CC7-A8CF-09CCB15E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A318A-38FA-4DC6-9204-85EB5532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E953-E53F-484C-A224-B3EE9D43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CBB51-AA4A-49F7-9D1C-68C34D40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E974F-7086-4FDE-9552-9DF1ADA1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B9F1E-4858-4650-AB12-77A873C8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947AF-33CF-440F-ABEE-9D4D58E9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CC77E-CF06-402C-B4D9-F0FAC178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4BC11-30DA-4B4D-B4B1-A2724BCE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F7413-D693-4B13-8189-FF03DFD2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79F24-2F5B-4EFE-8313-3004007F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7062D-F3E3-479A-B96B-1E45DF24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07514-5D86-47D0-9BA3-CD4020C4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950B-4C76-40B5-8C04-F44E17F4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62733-D8D3-412E-B40A-678EA5D7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5D6A2-9ED6-4809-A53F-8D5B3337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CE582-69F1-4364-950C-FB26288B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FB575-0F42-4F41-9C02-C2942824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F1857-BAFA-4652-9B25-5D49AFAD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1D021-B53F-4518-9FAB-2043A579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C7694-61EA-434D-82C2-79AEE99A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961AD-3FA1-4DB9-AD94-3280387C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C1779-C3AD-4D3A-9DC2-01686299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90676-DC88-4F4E-B88F-D32F2196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12A-954D-4AB4-B747-64847910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2C985-63C9-4A17-970E-ADE269DC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11B49-F167-47DE-ADC6-4B1F3322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FA148-3F39-4E7E-A0BC-203F375B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E73F5-1BF9-43D1-B090-CEE46487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3B6D4-2907-4B2D-B7F7-005303BD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6FC8E-1A58-49A0-9A6B-B1C43F19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7E1DB-B3C6-46A7-A245-078602A4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C5447-1B34-48AA-A913-A6E264D1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63F38-9470-4D90-9A01-42A74243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F750F-FCFB-4B2C-B31F-1A3539BA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BD13-3749-4BD2-A731-99C909A97E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318F-19E3-4007-A513-5A59871A38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9FE7-609A-45F1-82BC-A9806BD7E4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FAF5-CDC5-4985-94C0-C1FB3F2086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63E3-523D-49CE-994C-78411C9E55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7D6D-524D-4A4C-9A0A-D5CBD2F609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0129-3A77-44AE-A63F-C9E50AAD1F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E8EB-9479-4650-B73D-3F84B421FB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ABD9-2C6C-42CE-B397-1942AD6DF2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100F-DB43-494B-8307-88D9E7A6AB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3DFC-A78A-46D2-8E61-D3C9D124A7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87E3-C6AF-47A0-B959-A62C5E6E02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AE1A-8B38-4BC5-85EA-9CE0C43200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9838-C802-43AC-9D45-BCE3C38E95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B20B-1E5B-43E8-B02A-4DA68C0447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1F75-192D-4D69-AFBE-D37C502F81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7C5A-4713-48BF-804E-4961051FD6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4E52-2288-4CF9-B2B8-E478023E60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2B28-5874-43B4-8A44-9FED5E54A1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CBE2-9DA1-49C6-9F48-EFBB8B2539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D0EF-62C9-48E6-98CD-B46A4834CF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C69F-DC09-48D0-BB25-B35DFC0A2F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C357-A5F5-415D-A40B-B29980BBE6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CC5A-90D3-4D0F-9500-8A4E0B765E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C0DB-6412-43D2-9614-0867188D48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C9B7-CCD6-4114-A602-E4FF00AB50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5566-FDA8-4B4E-92E9-C159E53BDE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9281-1357-4E85-8790-969F112206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0070-78D9-4666-A931-2441DB08F3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5B59-4ABF-433E-A2DE-703DB71844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DAD7-1C3D-49D6-9874-20ED76A69F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FF5E-81CC-4BE1-B6B8-9635282921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629A-6B00-4E14-9C4F-0E76024B15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B4BF-65EB-42FD-B286-D32642778EB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0F9E-4E8B-44C3-BCD9-D076475A20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CEF8-C660-4A61-9DE7-189C1AB7B6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BFD8-1DB2-4230-84F8-D09F8087B5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A308-B3F4-4A66-BACE-BB82D6BC2C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49C5-5CD3-4746-A9F9-E8DE2CADAF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D26D-3F21-458D-BEDA-BF5B001AC6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CC33-C8AF-4080-803D-84775388AC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3462-54EE-4A4C-9204-EAE6E87A2C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795760" y="2938320"/>
            <a:ext cx="355248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2" descr=""/>
          <p:cNvPicPr/>
          <p:nvPr/>
        </p:nvPicPr>
        <p:blipFill>
          <a:blip r:embed="rId1"/>
          <a:stretch/>
        </p:blipFill>
        <p:spPr>
          <a:xfrm>
            <a:off x="209520" y="917640"/>
            <a:ext cx="872496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76040" y="905040"/>
            <a:ext cx="8790120" cy="567684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2"/>
          <a:stretch/>
        </p:blipFill>
        <p:spPr>
          <a:xfrm>
            <a:off x="684360" y="435132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611280" y="494172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611280" y="5589720"/>
            <a:ext cx="504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图片 1" descr=""/>
          <p:cNvPicPr/>
          <p:nvPr/>
        </p:nvPicPr>
        <p:blipFill>
          <a:blip r:embed="rId1"/>
          <a:stretch/>
        </p:blipFill>
        <p:spPr>
          <a:xfrm>
            <a:off x="271440" y="771480"/>
            <a:ext cx="8599680" cy="56293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3"/>
          <a:stretch/>
        </p:blipFill>
        <p:spPr>
          <a:xfrm>
            <a:off x="684360" y="141300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4"/>
          <a:stretch/>
        </p:blipFill>
        <p:spPr>
          <a:xfrm>
            <a:off x="684360" y="198900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5"/>
          <a:stretch/>
        </p:blipFill>
        <p:spPr>
          <a:xfrm>
            <a:off x="684360" y="314172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6"/>
          <a:stretch/>
        </p:blipFill>
        <p:spPr>
          <a:xfrm>
            <a:off x="755640" y="371628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7"/>
          <a:stretch/>
        </p:blipFill>
        <p:spPr>
          <a:xfrm>
            <a:off x="755640" y="4292640"/>
            <a:ext cx="50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8"/>
          <a:stretch/>
        </p:blipFill>
        <p:spPr>
          <a:xfrm>
            <a:off x="684360" y="5388120"/>
            <a:ext cx="50472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479520" y="241200"/>
            <a:ext cx="84042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195120" y="942840"/>
            <a:ext cx="8751960" cy="49723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900000" y="5388120"/>
            <a:ext cx="136836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图片 1" descr=""/>
          <p:cNvPicPr/>
          <p:nvPr/>
        </p:nvPicPr>
        <p:blipFill>
          <a:blip r:embed="rId1"/>
          <a:stretch/>
        </p:blipFill>
        <p:spPr>
          <a:xfrm>
            <a:off x="139680" y="676440"/>
            <a:ext cx="8866080" cy="61322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2"/>
          <a:stretch/>
        </p:blipFill>
        <p:spPr>
          <a:xfrm>
            <a:off x="1258920" y="1859040"/>
            <a:ext cx="4897440" cy="4064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3"/>
          <a:stretch/>
        </p:blipFill>
        <p:spPr>
          <a:xfrm>
            <a:off x="1042920" y="2392200"/>
            <a:ext cx="4897440" cy="4064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4"/>
          <a:stretch/>
        </p:blipFill>
        <p:spPr>
          <a:xfrm>
            <a:off x="900000" y="3500280"/>
            <a:ext cx="432000" cy="40644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5"/>
          <a:stretch/>
        </p:blipFill>
        <p:spPr>
          <a:xfrm>
            <a:off x="971640" y="4581360"/>
            <a:ext cx="431640" cy="4064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6"/>
          <a:stretch/>
        </p:blipFill>
        <p:spPr>
          <a:xfrm>
            <a:off x="900000" y="6265800"/>
            <a:ext cx="65516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2" descr=""/>
          <p:cNvPicPr/>
          <p:nvPr/>
        </p:nvPicPr>
        <p:blipFill>
          <a:blip r:embed="rId1"/>
          <a:stretch/>
        </p:blipFill>
        <p:spPr>
          <a:xfrm>
            <a:off x="209520" y="576360"/>
            <a:ext cx="872496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177840" y="993600"/>
            <a:ext cx="8790120" cy="546768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2"/>
          <a:stretch/>
        </p:blipFill>
        <p:spPr>
          <a:xfrm>
            <a:off x="755640" y="4321080"/>
            <a:ext cx="1728720" cy="40644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3"/>
          <a:stretch/>
        </p:blipFill>
        <p:spPr>
          <a:xfrm>
            <a:off x="3492360" y="4322880"/>
            <a:ext cx="1729080" cy="4064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4"/>
          <a:stretch/>
        </p:blipFill>
        <p:spPr>
          <a:xfrm>
            <a:off x="6588000" y="4321080"/>
            <a:ext cx="1729080" cy="4064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5"/>
          <a:stretch/>
        </p:blipFill>
        <p:spPr>
          <a:xfrm>
            <a:off x="826920" y="4854600"/>
            <a:ext cx="1729080" cy="4064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6"/>
          <a:stretch/>
        </p:blipFill>
        <p:spPr>
          <a:xfrm>
            <a:off x="3564000" y="4856040"/>
            <a:ext cx="1728720" cy="4064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7"/>
          <a:stretch/>
        </p:blipFill>
        <p:spPr>
          <a:xfrm>
            <a:off x="6659640" y="4867200"/>
            <a:ext cx="1728720" cy="4064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8"/>
          <a:stretch/>
        </p:blipFill>
        <p:spPr>
          <a:xfrm>
            <a:off x="900000" y="5411880"/>
            <a:ext cx="1729080" cy="4064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9"/>
          <a:stretch/>
        </p:blipFill>
        <p:spPr>
          <a:xfrm>
            <a:off x="3637080" y="5413320"/>
            <a:ext cx="1728720" cy="40644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10"/>
          <a:stretch/>
        </p:blipFill>
        <p:spPr>
          <a:xfrm>
            <a:off x="6732720" y="5411880"/>
            <a:ext cx="1728720" cy="4064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11"/>
          <a:stretch/>
        </p:blipFill>
        <p:spPr>
          <a:xfrm>
            <a:off x="1042920" y="5978520"/>
            <a:ext cx="17287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35:1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